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211-897D-4FB9-9B9E-EAD99563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928-236A-48C2-BE8D-936AA7A8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C52-6E6D-4AFD-8864-E9A8DB1E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CF0-20EE-42B7-B05F-CCE276E9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8F8-D4B1-4AE6-B9A4-86D423B6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09F-674D-4A61-999A-F7096239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5AC-5786-41EC-919C-90C6A96D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ED5-0105-4236-97BF-1752D87F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CCA-5D01-49B8-90FE-019BA6F8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83E-C869-4C4F-B16C-CF8A4B11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EC3-A049-4882-87A0-6FA2A04D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549-1F6C-4D52-B81F-2C086EE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BF8-AD4C-4755-A163-4DE17E2A3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 Y LOS ARGONAU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el referente de un héroe clásico de las narraciones de aven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ón es un héroe que debe hacer una misión, encontrar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671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el referente de películas concretas 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ículas del agente 007 fue el referente del cine de aventuras de los años        1960-19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lículas de Indiana Jones fue el referente del cine de aventuras del año 19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·Marta Martínez Monterr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FASES DE LA BUSQUEDA DEL VELLOC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El rey Pelias l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ncarga el velloci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Jas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Jasón emprende un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rgo viaje y accident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lega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Jasón y los Argonautas al lugar y el enfrentamiento para conseguir el velloc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yuda amorosa y inesper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recibe Jasón por parte de Medea, hija de Pel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La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huida accidentad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El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retorno victorios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Jasón junto a sus compañ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EL ENCARGO PRE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2087640" cy="2592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187308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s dos  foto podemos ver a Jasón con el vellocino de 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254952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11280" y="6165720"/>
            <a:ext cx="576000" cy="358920"/>
          </a:xfrm>
          <a:prstGeom prst="leftArrow">
            <a:avLst>
              <a:gd name="adj1" fmla="val 50000"/>
              <a:gd name="adj2" fmla="val 4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El viaje largo y acciden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27520" y="1600200"/>
            <a:ext cx="207972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1636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39640" y="616572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Llegada al lugar y la lucha para conseguir el velloc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a imagen se muestra como Jasón y los Argonautas se enfrentan contra viento y marea a todo lo que se les pone por de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167280" cy="413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La ayuda amorosa de Me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recibió la ayuda de Medea gracias a Cipris, quien hizo un conjuro para que esta se enamorara de el y le ayud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938760"/>
            <a:ext cx="2665440" cy="236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376360" cy="230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6165720"/>
            <a:ext cx="574560" cy="28764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La huida accident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4640" y="1600200"/>
            <a:ext cx="36021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una vez consiguio el vellocino decidio irse, pero Eetes lo persigue por mar, finalmente Jasón, Medea y los Argonautas  regresan sanos y sal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165720"/>
            <a:ext cx="574560" cy="358920"/>
          </a:xfrm>
          <a:prstGeom prst="lef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El retorno victori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són y los Argonautas regresan sanos y salvos a Yolco, y la historia finaliza así, pero hay leyendas que nos cuentan cómo Jasón ayudado por Medea reconquista su tr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264120" cy="3671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6165720"/>
            <a:ext cx="504720" cy="358920"/>
          </a:xfrm>
          <a:prstGeom prst="leftArrow">
            <a:avLst>
              <a:gd name="adj1" fmla="val 50000"/>
              <a:gd name="adj2" fmla="val 35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2d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Argonauticas de Apolonio de Rodas: El mito de Jasón y los Argonau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52d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són es el referente del cine de aventuras en pelicula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iaje Fantástico de Simb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alcón Mal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cah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disea en e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22:18Z</dcterms:created>
  <dc:creator>Jose Vte</dc:creator>
  <dc:description/>
  <dc:language>en-US</dc:language>
  <cp:lastModifiedBy>Jose Vte</cp:lastModifiedBy>
  <dcterms:modified xsi:type="dcterms:W3CDTF">2010-01-10T21:41:22Z</dcterms:modified>
  <cp:revision>3</cp:revision>
  <dc:subject/>
  <dc:title>JASON Y LOS ARGONAUTAS</dc:title>
</cp:coreProperties>
</file>